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95BB-3386-4973-ADD4-3AB7FC76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BC2-F36B-44DE-B0A2-F3A6412B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B66E3-6532-4E4C-AE24-D9F68D21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C77AE-DE68-48D1-AB57-F8EDCAA7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AE816-FB23-441D-B169-6134A246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E4E80-A021-406D-8780-5B4599F0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DB1FA-13D4-4DAC-A5E6-3D37999F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78A13-6131-4917-88C1-42B86B87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670D4-3F28-403D-8C4F-7D25750E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6023D-E68A-4D3A-BB91-56F9990B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A2F69-B703-4A9D-B3DF-06A896F1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7F18B-FEEA-479C-B0FF-EAF0FDEF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B53-346F-4A48-8C17-58CDD093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49F4C-599F-457A-B500-9096C2B1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7A3F0-421E-45A7-AD9C-4D14B585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26163-DE6B-4203-8544-38479DB8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FEDEA-5D0D-40BC-AE6B-FD03FDDC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703BF-E155-4EE3-AAFB-56AC34BB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059F8-4BBC-4752-B2E0-B823A07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57FDC-7BA1-4C3C-BCE8-44202512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45900-051A-4F67-9E72-C798E9C0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0F11C-B1E9-48CB-91BB-5C08FF14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04DB8-DEA3-4560-AF34-4FA2BA24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86D-A548-40D1-9469-549CBF6D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70DBC-9F01-4D68-A170-141787FB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7A400-9225-4CE8-A7EC-976FAD92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0557A-B68B-4D42-A29C-15D06961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044B3-7C82-40ED-A3C4-4BDF51ED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2C62C-758E-4E6E-9B1C-7582F4BC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40189-CAC7-492D-BBB4-255F9B6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382FA-5332-4EE9-9869-4CEC8F4E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2DAE1-7B19-465C-9662-E617B3EE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816DD-BC8F-40DE-8B53-92E53107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1384A-2617-444B-B8CD-7A2C987F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2D2B-F53A-40D8-ACEA-E5CAC9CA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BDDFE-5FC8-4876-9282-E086B789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1CD1B-0417-44B2-A755-53228FBB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CD384-6EB7-4020-9AA0-836E1539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32A89-276A-431C-BCA6-5C7989B8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CEDE4-1EDA-4ED8-8647-9838E4F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16D0E-AE94-421F-8A46-46CDFDF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806B1-8903-492C-B209-842FD872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8B027-7BFE-4CF6-93E5-57D1581D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EF51D-1FD2-4C0A-8BA1-9029254E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7E919-F9B1-4234-A990-671218E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B9AC-C21A-4207-97CA-19A60CF6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445F1-BB5D-41A0-9B53-09A6300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70738-0155-4721-B6AA-B10836B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D1622-BE2E-4614-8556-5C72AFE8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B08CC-7E0D-4548-AF55-A81484BC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02218-F311-4F2A-A10D-64308DDB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AC6A7-F9CB-4860-B0BB-BE34E5B3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EFE68-001A-4FF2-919C-7791BF3B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4FC6D-7091-438D-A82A-E9F952E3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6C93C-BD0D-4BBD-8280-6AE3C522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412F7-1944-4D3F-B441-182780C7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F9DA-632C-423E-A20C-A4577E83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C80DA-142E-4CD0-A8F3-C4C40F0D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B9F46-525E-446E-A93D-CF0E25A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D9A8C-5A85-467E-94E0-FC86359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A08A1-2169-4BD0-B3EF-7C0EED8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D8B3B-3B54-4627-A459-908434E7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2F63C-8800-4BCF-B4C0-7B67BC59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3E12A-DD86-48C1-8EE1-338E557B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95C55-9B97-4CFE-84E0-10D82E4C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A5545-6BFE-44DB-B17E-EEF20E55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62EFB-12EE-4DB9-B6EA-7D6C6CCC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0F01-5978-45F2-879E-6A62AB2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5D4D1-3998-4A58-989F-D28BFE4F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84057-59C5-46C7-AEF7-F1654CC5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5D59A-4832-427F-ADBB-1D5A274E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9D85A-1A90-4A45-8337-7D26EE4B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C0940-476B-44D9-864C-7B0F011C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69FD7-5559-421F-963D-298AFFE1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4955B-8715-49F3-9F37-DC1B6CD7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A916F-E8E8-49C6-BD22-83193760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3CD9B-8D95-4EDC-8BFF-61AB4DC8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76E14-D6F2-4286-8FB3-96BC0171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0316-3A40-4E8C-8E7F-49DB4B5E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D624C-4AED-4B77-B297-898F8E96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AAF99F-ADD9-4E41-B0F1-A81C7EA3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EBB6E-0E0A-4BA1-B99B-ED7C7EF7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DC0CB-ED69-40F2-B686-C323BE10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D07A1-9ACC-4138-B15A-0656E3F5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CFCBF-3143-43A9-A2B6-7965429B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765B5-92A9-48EF-BC5D-F2EA1313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46CBF-6B6A-4C7B-807C-D6FB4823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749D1-F304-4932-9F77-EF9E437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4EE89-1AD8-4096-A8FE-F2B57797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477D-DD15-4704-9F61-89AA267C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2E1D8-B8FE-4482-A190-09A16063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A30A0-B23B-4163-9198-4BB8ACBC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2DC10B-1765-4840-A64B-3C6831A5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EC7F0-DCAA-42CF-8BE2-4A516E24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9D740-28CC-4EBC-B77A-F89525C6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54FDC-307A-434A-98F1-D71692E7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07CA2-95D5-4336-A4BF-C2F47610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ACAAB-435A-4D81-A3C8-285D7F05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E7B28-BAF6-4D4A-B91F-A9DFEE4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B72C9-CD0B-4E9E-BD8C-CDD1C51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F2B1-7659-4F38-B96A-ECB08334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9CF418-67C9-4ED5-92D5-FDE6803E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14728-AD12-476A-BD6D-5C1767E6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49309-9748-498D-B85A-ACA1C86B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6F2E3-02D9-48E8-BEA1-AC34E7C4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24CA7-3D9E-4814-B509-257A18EF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DAB24-68F7-4A83-8856-2112772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7F6FE-D538-440B-AAA8-44F98526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A7736-D4E0-452D-8E54-9F880D57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D641D-6DAE-4247-8AC7-C3708B45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F9B2C-7495-4A64-8B84-A0AA8371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EB9-6F73-4BA3-94FC-E37B90B5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C236-0944-4558-8E51-9055A322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DC6D3-EFD9-4F49-94FC-EB1230A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98878-6548-41C5-81B5-A734184F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B6EDB-B2DE-41C4-8629-F979D88A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2BB31-B72C-4F77-8245-A0911003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868DF-480C-4776-924A-AD2581BD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5B568-AA4D-4BD3-B06D-7C349E68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DF751-8565-4016-BF99-EF44B934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65DFF8-BC76-40B5-A0EE-A69C970D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11C960-A237-42D1-AD03-C71C6B33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316BDE-793D-43F5-980A-5ACDEF60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D00F-9046-4941-A3F0-5704B35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9176D-EE46-4874-9F26-54D1726F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20118-0A94-4D22-8E58-43E1850E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CD10A-559D-4F57-92E3-AE010482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0AB62-DEC2-4F44-96C0-4A013348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63B27-809E-434E-9005-0ADA5BE9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24553F-92E3-4449-85B9-0A8481A0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C4259-2E92-46D1-830D-BCCA84A6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5A5A82-1E93-48FB-B9FB-915EAEA4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A530F-762A-4AB9-A4B6-6BCB1F18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33D8F8-AA22-45C4-B93B-CB7B516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BA90-69B6-4236-A261-12850477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20AC1-D25F-4B8C-A2E3-6A8CE43D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5EA9F-6CED-4A89-860D-C556BE48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0DF777-B7F8-4C4B-8C17-C3128F5F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F4A3B1-DAC6-45A0-A307-BC0B9731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A0AD5-8CD4-4A11-ADCF-610FC59A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D3C46-2BC8-47A5-81AD-D50D80C2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E952E2-6B97-456C-90C4-2446682F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3BB78E-8C6A-4E4A-998C-2DC1900F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18C83-39E9-4028-B9AB-2E4C3C1E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FFA0C-5557-40C2-AD75-BF912526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CA0C-3DCE-417A-BBDB-50686E4A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81ECB-E458-4BC8-9CF1-DA5CAE68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8196D-45EE-45A5-9FD0-FB958E9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18974-F14F-420D-97A8-85F331A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E7029-19AE-40EF-B19F-FCD6A211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F5C415-3FD0-4A8D-8AEC-49674595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B1E2D-4A6F-480B-BA8B-DA76FEF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6E6D8-490A-441D-ABF0-0E55F544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5E44D-4A1D-4774-981F-A6A61BDA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C7290-0061-4707-A61A-8AD0C542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E1A661-772B-4BD0-A192-CF24FECA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B147-3635-4A27-B49F-BDD3E409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3F428-0D55-4B7B-AD5C-E3E7405B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2F0251-4F47-4B58-BE25-FFB21673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B93E7-5408-49C8-83C9-6337BDA1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32E53-93DA-4659-B069-078935FB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5BEF5-96D6-4960-9E3A-E1503064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A91DC-9936-4680-BE9B-4C15B0B5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4687AF-48D9-4EC9-92B7-17A15A1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CFE50D-C377-405E-AD70-D13A90A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A5434-DAA8-49A3-86FE-0E6A2442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8D74C4-5737-4258-A018-993BFD05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1A3A-48E8-431A-B5DF-1B012DDF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AE41EA-A361-4231-A265-0C1E9191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B04B4-2453-4477-B09F-71829CE8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53D2DB-0A09-4CC5-A2F3-79C4585D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8819-6076-46D3-8054-502717CF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E8B1-5D92-491B-A255-547D7AE7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B547-C552-4BBC-B0C2-22CEFEBD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4680-F6E0-4872-9CB4-A261859E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FCD-7DC3-42A5-9D07-62097419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3C40-4EF2-4798-B46A-712BBB41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CB441-5F06-4D63-87F0-0AA268F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3AD0-0205-4786-969D-B6F51C4A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E2ED-7DA1-407F-8E2F-CEFB1A8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F9BA-F5E7-4A8B-A8F8-60B692A9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27C0-13C2-41AD-B192-01C73F93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E6E8-1F05-4233-B841-E7375502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5A3F-F66D-4EEE-83F6-80E7BE19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740DA-7B96-412F-A3E4-1B406944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AAEC-2FC5-4E24-9587-3CD4A71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A45-10D8-44C2-9D0D-4EA762D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6BC7-E35F-49AA-9B9F-E2BDC626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367EE-FC59-47EB-B1FB-A9EE29F0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1B2B-E5CE-4B15-8962-3CD43CA6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B713-0224-460A-B244-6A187DD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79DD-E53A-403D-A8EE-47A58965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4DD2A-AC60-4711-AA2B-422E066B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7265-D610-4510-89B5-3C77D8E4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04F63-620B-4CE2-868A-30C042B5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8E03F-9ACE-45E8-8F5F-F8BCCBC3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13FD-A83B-4D98-BBA9-0C3944CF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B9A-7E3F-417B-8F07-41A88F63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972EB-2D3D-4B3D-B2E5-35F43A5B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415EC-4E15-40C7-96C9-9B788A0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4BE35-645C-45D5-8AAE-4C86FE7B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781A6-C169-472C-B4D4-40F5C97D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75BE-1128-48ED-9616-585D7619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6CBC-CE46-4E90-99B9-A94AF88B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C1F6A-A045-4A05-A3D4-359D75CE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4CF2-7A0F-4CD7-9DD0-CAB21682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EBBD-D27F-457D-8C36-0FD86E8B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DDF6-BF01-4C2C-8D0E-A0A8B223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8AF-6ACB-475A-953E-BA957CF0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7EF2D-5214-4A60-A584-8B41C9B9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A72E3-2818-4F9F-AE45-E90C4AAB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790A9-27E7-47F2-8AA2-E94B099E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D256-596E-41C7-A788-56DA26F7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BD44E-D39C-4A5A-B02A-1D6F473D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5EEB-8190-4421-A934-C1DFB121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513FF-A4F0-4460-80F7-35B355EC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0B9BE-3209-46D2-8C16-A3F8C6C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4C7E-B8F6-4A49-A134-232A3592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E9C01-8280-4FAC-A8E0-17F3C3E1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229-F777-4B7C-8544-4DDE239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83106-B826-4235-BFFB-29543CC7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608F9-685C-48F7-A9E5-1F79EB5D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5360-02D3-4817-9577-45F8AEA1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8C778-48E1-4BDD-9D8B-B2FCC2FB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3248C-EFF3-4716-BC4B-39F3FB81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5E8B7-79B1-4C38-91FA-D64908A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F74A6-A910-4617-89A2-FAC26992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BE39-84F0-411D-BB53-F8E99A75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4885F-6B8F-4351-827D-58F1C4BD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49B4-43F5-4A8C-94EE-61D7FF9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C65-042F-47B1-8BA5-3D74B90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6CCAD-4031-4D18-A34E-79F2FED4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29FD0-8CCC-4168-B5F9-A9F9D60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B1C0F-2348-4898-B441-938ADDC5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124B4-1DC9-4AE3-AB78-E9AD832A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D6547-BD14-4C36-944A-02D39EDD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6D857-3096-4A0F-A3BA-CB352A72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5C7FF-4EB2-4428-A0C2-DBB24D90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97B07-FD84-47C4-BAC3-B19CA106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06585-82ED-4884-91DE-6F08DCE6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D50E-3B4D-49DE-BFAE-30754043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68C-AA93-4FF5-B7A1-A3D69B6C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53B4E-A1A7-4290-A206-80C54414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B0395-846D-4359-A93D-0288C4E6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FEEA-6B2D-47A2-B200-3297097E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E53FA-AAFC-4806-AE3A-44DD1039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AF0FA-5378-4570-8074-5FA44711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39A1-33DC-414F-84D3-FCCB8AF3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7C689-9F9B-460C-9C7B-66A4F1D6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7C9E1-ECF5-47D4-84AE-E6DF3739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294B4-FE3D-44F0-9F44-AC2834EF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9E1DB-9928-4761-9F28-3F652C6D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C3FC-DD46-4329-B8FA-1B9D9B25E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746F-9371-4C42-B854-4A19FCCDEF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E77E-7BBB-4BC6-AF36-316730FFA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2EAD-66A3-4A5E-AEAA-DD4CD7F9F8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0F14-9BBD-43AC-A3E6-CD3FF72792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21B4-735A-4C94-9E9C-3378D0E24B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3E72-F309-4B66-9452-64DEF327D7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5BCD-151B-4345-BB94-48C53567AB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FCF7-2B03-4995-93C7-82A8D7DA20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403F-7FD1-4C02-80F3-A1A81B8C36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34F-61FD-45B8-8E04-7BF53D5E11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F7D1-3022-4DDE-8789-E7B8AF925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A693-9FA5-4001-A6B1-327570B712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6038-D9F4-4B8E-8327-00EE183EB8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09CB-3666-4EDE-951E-A60DB76EAA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AC51-5361-42B9-BE95-9F38792A48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C45D-4A6F-411F-A486-AD84F116F2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188C-1128-4A07-86A7-C7A8C340F6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4C3D-558E-491D-BD81-DB6A6FC07C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13A0-A15C-4E61-856A-AAD92E1DD0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DD3-6982-4777-AEEA-8B6099294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7A0E-2708-479F-9BA9-65DEED860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E0B-50F6-4F2A-8188-F75CB386D0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4F08-DF6B-4C67-B2F2-AC3BD7F15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A19-8A93-4B34-AFAD-F6B55ED228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B692-C75E-44CB-83E7-54D3A0134D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1BC1-22EB-4D68-BE44-4A67F1B95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2EBE-B62D-4094-803A-76A999CD1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DE8D-E518-4F8C-88E8-E8925B8F3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D0F1-C54E-45A9-AEC6-4636E09BD3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49C1-1A0A-44D6-8665-493B076FBB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40B-7173-47A0-987A-8570DAC51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09B7-BB8B-43CC-9F1A-0F6B8D4717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76A0-E66A-4AFB-834B-545036DF1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AD87-62B5-4A7B-8F10-453FA5E79B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0A0B-CFF3-46F0-AAC7-CD1B0C01BF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344D-0212-4F0D-90AE-AA005D58BE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580E-7CA3-4355-ACB9-C9CF96449C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84C9-7BEB-4E79-A420-E5E3387C87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1627-2DD2-4491-8C9F-D352666B3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809800" y="3133800"/>
            <a:ext cx="35244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71440" y="2471760"/>
            <a:ext cx="8599680" cy="1914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0168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262728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06728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50872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87708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8158320" y="40053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50760" y="952560"/>
            <a:ext cx="8266320" cy="23526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" descr=""/>
          <p:cNvPicPr/>
          <p:nvPr/>
        </p:nvPicPr>
        <p:blipFill>
          <a:blip r:embed="rId2"/>
          <a:stretch/>
        </p:blipFill>
        <p:spPr>
          <a:xfrm>
            <a:off x="50760" y="3621240"/>
            <a:ext cx="9042480" cy="2252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755640" y="1413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755640" y="1801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755640" y="21765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755640" y="25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7"/>
          <a:stretch/>
        </p:blipFill>
        <p:spPr>
          <a:xfrm>
            <a:off x="755640" y="295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8"/>
          <a:stretch/>
        </p:blipFill>
        <p:spPr>
          <a:xfrm>
            <a:off x="755640" y="403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9"/>
          <a:stretch/>
        </p:blipFill>
        <p:spPr>
          <a:xfrm>
            <a:off x="514836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0"/>
          <a:stretch/>
        </p:blipFill>
        <p:spPr>
          <a:xfrm>
            <a:off x="75564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1"/>
          <a:stretch/>
        </p:blipFill>
        <p:spPr>
          <a:xfrm>
            <a:off x="5076720" y="49561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14520" y="2262240"/>
            <a:ext cx="7913520" cy="23335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303200" y="265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27332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1332000" y="3457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1258920" y="38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1258920" y="42498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14:27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